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09664"/>
        <c:axId val="9106682"/>
      </c:barChart>
      <c:catAx>
        <c:axId val="73709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6682"/>
        <c:crosses val="autoZero"/>
        <c:auto val="1"/>
        <c:lblAlgn val="ctr"/>
        <c:lblOffset val="100"/>
        <c:noMultiLvlLbl val="0"/>
      </c:catAx>
      <c:valAx>
        <c:axId val="9106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09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4B4-404F-4905-AC5F-852874BD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BCA-A093-4FF5-9D56-E7396F07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587-12BC-4705-8423-DA92E004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3CC-C949-41C6-B0EC-174BE262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FEB-0C98-4C12-9FAA-41811142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180-78BB-4201-A7BC-A0C2394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5CC-FD55-40C8-8FA7-30DE2980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263-FEF3-4825-BD81-11A95E40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24A-2CDC-4BBB-86A4-FFB8E051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D57-028E-4BCF-81DD-49AE57C5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A9C-BDC0-4E32-90EC-E3749B6C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641-A831-4FE7-984D-BCEF206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5DEC0-8EEA-43B0-B483-3FD9C2C090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