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37508"/>
        <c:axId val="46948444"/>
      </c:barChart>
      <c:catAx>
        <c:axId val="11737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48444"/>
        <c:crosses val="autoZero"/>
        <c:auto val="1"/>
        <c:lblAlgn val="ctr"/>
        <c:lblOffset val="100"/>
        <c:noMultiLvlLbl val="0"/>
      </c:catAx>
      <c:valAx>
        <c:axId val="469484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37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3A9-CABC-406F-8DEF-46FC603E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F7DE-43F4-401E-B7E4-E6F42BDB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B65C-3380-4A43-8AD4-FDAFE8B8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D2A-2BC8-4571-845D-7BBDB981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6FA-ED06-4B4A-A7C1-574289F3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FB2-F6E8-4006-885A-F69C186B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C91-51C6-4525-B77E-7223B814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FA1-8EC3-44EE-B0B3-85B7CCDB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100-EA53-4367-A9FE-B5A343AB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8C1-3D54-47C9-822D-222C987F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2BC-660F-4F4A-927C-1A14302F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2F4-660F-45B4-A192-A0B7C84F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3858C-D6C0-4712-89E4-7A3420622E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